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A84-3F55-410D-97AB-154B2383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443-6A72-4AAB-9525-60F562A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C73-31EE-41A7-8A85-FDCA3BE9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5C0-8002-4291-ABD6-1D1FBA2F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D485-DC43-4012-89AB-A5F6DF19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EBC-2A69-4227-BB60-691D472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682-6594-4124-A7B6-7D77D8D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AF7-F92B-4ABD-8DF4-497565A0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BD7-DE97-4C58-9A2D-9D12375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B79-843E-4D7C-9733-45956A9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4D43-89A7-42AA-A01C-701A33BB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81F-33BE-4E25-9903-26B46EB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AA4E-DCEE-4059-A39C-5FC38B1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834-7DE7-4F90-B881-FF89411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56B6-F525-469A-B973-586F22E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D56-D2DE-433C-9A43-B9FE224B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A823-99B1-473B-B5A1-F502012B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632-A8DA-4D55-8E59-64E0C43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29F-CEE0-439F-AEFE-AA47E8B2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D7E-1AC9-4B70-9582-365AE2F7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A83-8F85-4E58-99DF-AE138BCD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53C-433B-41B2-AF89-622044B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B80-F554-4420-B5DC-24E5B38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C7E-C2DA-46F5-A3B0-C0AF7F2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8F6-E7ED-4D5D-B48F-5E9D2353DE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27B-9EF9-4DCD-A7BF-67AE6452F7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cs.etsu-tn.edu/gotterbarn/" TargetMode="External"/><Relationship Id="rId2" Type="http://schemas.openxmlformats.org/officeDocument/2006/relationships/hyperlink" Target="http://www-cs.etsu-tn.edu/gotterbarn/" TargetMode="External"/><Relationship Id="rId3" Type="http://schemas.openxmlformats.org/officeDocument/2006/relationships/hyperlink" Target="http://www-cs.etsu-tn.edu/gotterbarn/" TargetMode="External"/><Relationship Id="rId4" Type="http://schemas.openxmlformats.org/officeDocument/2006/relationships/hyperlink" Target="http://www.ccsr.cse.dmu.ac.uk/staff/Srog/misc/bandt.html" TargetMode="External"/><Relationship Id="rId5" Type="http://schemas.openxmlformats.org/officeDocument/2006/relationships/hyperlink" Target="http://www.ccsr.cse.dmu.ac.uk/staff/Srog/misc/bandt.html" TargetMode="External"/><Relationship Id="rId6" Type="http://schemas.openxmlformats.org/officeDocument/2006/relationships/hyperlink" Target="http://www.ccsr.cse.dmu.ac.uk/staff/Srog/misc/bandt.html" TargetMode="External"/><Relationship Id="rId7" Type="http://schemas.openxmlformats.org/officeDocument/2006/relationships/hyperlink" Target="http://seeri.etsu.edu/default.htm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1880410230/shoppintips/104-7066513-8642368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 Project AuditorTM 4.0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decision support tool using the SoDIS proces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 Project Phases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easibility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ments Analys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Environment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Task Analysis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Stakeholder Analysis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Stakeholder/Task Analysis Section</a:t>
            </a:r>
            <a:r>
              <a:rPr b="0" lang="en-US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496440"/>
            <a:ext cx="8163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    </a:t>
            </a:r>
            <a:r>
              <a:rPr b="0" lang="en-NZ" sz="2400" spc="-1" strike="noStrike">
                <a:solidFill>
                  <a:srgbClr val="003366"/>
                </a:solidFill>
                <a:latin typeface="Verdana"/>
              </a:rPr>
              <a:t>Environment Sec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about the presence of those things that will improve the chances for a successful projec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team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able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keholders 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NZ" sz="2400" spc="-1" strike="noStrike">
                <a:solidFill>
                  <a:srgbClr val="003366"/>
                </a:solidFill>
                <a:latin typeface="Verdana"/>
              </a:rPr>
              <a:t>Task Analysis Sec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llows user to evaluate the tasks in the projec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Deliverable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Agreement among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Risk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 </a:t>
            </a:r>
            <a:r>
              <a:rPr b="0" lang="en-NZ" sz="2000" spc="-1" strike="noStrike">
                <a:solidFill>
                  <a:srgbClr val="003366"/>
                </a:solidFill>
                <a:latin typeface="Verdana"/>
              </a:rPr>
              <a:t>Stakeholder Analysis Sec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about items related to the various stakeholders in a projec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The stakeholders in a project need to first be identifie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Is project plan acceptable to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Is project understood by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asibility </a:t>
            </a:r>
            <a:r>
              <a:rPr b="0" lang="en-NZ" sz="1800" spc="-1" strike="noStrike">
                <a:solidFill>
                  <a:srgbClr val="003366"/>
                </a:solidFill>
                <a:latin typeface="Verdana"/>
              </a:rPr>
              <a:t>Stakeholder/Task Analysis Section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Asks questions about the relationship between each task and each stakeholder.</a:t>
            </a: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Does this task have an impact that is acceptable to this stakehol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G Times"/>
                <a:ea typeface="Times New Roman"/>
              </a:rPr>
              <a:t>Etc for all tasks, all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The purpose of the Analysis form is to help identify every requirement where there is an ethical issue potentially compromised for some stakeholder by the completion of that requirement</a:t>
            </a:r>
            <a:r>
              <a:rPr b="0" lang="en-NZ" sz="3200" spc="-1" strike="noStrike">
                <a:solidFill>
                  <a:srgbClr val="000000"/>
                </a:solidFill>
                <a:latin typeface="CG Times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92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 are formed for eac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ment-issue-stakehold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rip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form is designed to help identify every requirement where there is a potential ethical issue compromised for some stakeholder by the completion of that requir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678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is SoDIS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Development Impact Statemen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experts in Computer Et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Don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otterbarn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East Tennessee State University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imon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Rogerson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DeMontfort University in the UK., in conjunction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E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Software Engineering Ethics Research In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quirements Analysi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ing identified any ri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 concerns/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 reports for discussion/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3. Detailed Analy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s the impact of the project on stakeholders using a Work Breakdown Structure (WBS) eg MS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process to Requirements Analysis but in more det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break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DIS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ftware projects are run on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a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orous stakeholder analysis is a new concept for software engine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S c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avoid software development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produce better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development failures are common and expensive (eg, INSY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ising the risk of failure in software projects can be managed in two w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of the impact of the process on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ject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studied and underst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s on existing engineering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standards and tool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MB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Project, Gantt charts et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methodologies (eg, SDLC, CM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akeholder Impact Analysi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09320" y="3200040"/>
            <a:ext cx="6813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ful softwa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what it is designed to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or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llent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effect on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is a stakeholder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28440" y="3123720"/>
            <a:ext cx="7194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ffected by the proj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its produ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D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keholder impact analy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identify, evaluate and mitigate risks in the software development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courages the developer to think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op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roups, 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ed to the project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ey are related to the proposed project and its products or deliver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SoDIS Project Auditor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M 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6859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oftware package that uses SoDIS to facilitate the process of auditing projec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7:49:16Z</dcterms:created>
  <dc:creator>Smith</dc:creator>
  <dc:description/>
  <dc:language>en-US</dc:language>
  <cp:lastModifiedBy>LSMITH</cp:lastModifiedBy>
  <dcterms:modified xsi:type="dcterms:W3CDTF">2006-02-28T23:34:04Z</dcterms:modified>
  <cp:revision>7</cp:revision>
  <dc:subject/>
  <dc:title>SODiS</dc:title>
</cp:coreProperties>
</file>